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33E-3C70-43E7-B96C-E6B02172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3308-F498-404E-B868-19FBB122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415-B5AC-43D8-9F65-043F5254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DBB8-900C-4F9C-9729-9C6386F6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E3B-2C94-4C2F-BD89-9B1C0F04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48B-20BB-40C7-B4D8-5522A5CA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0F7E-7CE9-4903-87A3-E48DBFF1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7E6-18A2-4B2F-81A3-89D2BAE2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8CBB-07E7-42F2-9FC5-D8CA6667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4FD-5B7F-4ACC-901A-B89B55A6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3EC-BA99-4BDF-9C3E-7D9666D02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D20-496E-431F-B6B9-F0046DBD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0FFC-7E03-45AA-A200-116D56A6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40B-419F-4137-A628-85327C0B1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D8F-BCBF-45F0-BEE9-0BC7B5177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2FB-520F-4B54-ABBD-8F2895E3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689-3D18-48DF-815A-D0E8B9B2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A1B-8B31-46CB-98D6-B8ED3CFF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478-7A0B-4937-94A7-367FDDF2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BD5-C3D3-43F1-B4C4-0E7D5E48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F52-45D9-482D-95B7-BF8A39B7B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E51A-2DE2-4BAB-95B0-E2D6B02D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375-F424-4F66-BF3E-EF7687FE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338-08A8-482A-AAAC-B7C7551D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D0EE-0C17-4FEF-A080-F060156D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FA64-10BE-49A9-95BD-8BF93FE0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9FC-A71F-4AE0-AAF8-EB47A5ED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57A-A95E-4C01-9620-93984CAC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EBB-B168-4228-9077-413D69B1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E66-E969-4CA8-8D5C-B08B66A2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2E5-5CA4-4770-AA63-456FCB4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5AB-B093-4C63-9F7C-2A78FFC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F7C-B32A-41ED-B814-E8FAB38C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D78-8D7E-494B-99D0-BFE2246A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9CD-5BF2-43B2-93DA-039B05FF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FE7-C685-49C9-8589-F0CF00B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5F8-88A9-4145-ADB4-81F2EEC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63B-FC0A-44BA-93D2-1955D11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EB8-996A-4BE9-8319-8B0296C5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bf6"/>
          <p:cNvPicPr/>
          <p:nvPr/>
        </p:nvPicPr>
        <p:blipFill>
          <a:blip r:embed="rId1"/>
          <a:stretch/>
        </p:blipFill>
        <p:spPr>
          <a:xfrm rot="15462000">
            <a:off x="6019560" y="48762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bf6"/>
          <p:cNvPicPr/>
          <p:nvPr/>
        </p:nvPicPr>
        <p:blipFill>
          <a:blip r:embed="rId2"/>
          <a:stretch/>
        </p:blipFill>
        <p:spPr>
          <a:xfrm>
            <a:off x="3886200" y="487692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9"/>
          <p:cNvSpPr/>
          <p:nvPr/>
        </p:nvSpPr>
        <p:spPr>
          <a:xfrm>
            <a:off x="3273480" y="46080"/>
            <a:ext cx="11332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76212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888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toms whose shells are not full tend to interact with other atoms and gain, lose,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15613" r="0" b="15554"/>
          <a:stretch/>
        </p:blipFill>
        <p:spPr>
          <a:xfrm>
            <a:off x="609480" y="2590920"/>
            <a:ext cx="8077320" cy="3057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990720" y="2438280"/>
            <a:ext cx="89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onic b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attractions between ions of opposite ch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, charged atoms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Attraction:  Opposites Attract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/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als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n-Me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2717" r="0" b="32134"/>
          <a:stretch/>
        </p:blipFill>
        <p:spPr>
          <a:xfrm>
            <a:off x="609480" y="3581280"/>
            <a:ext cx="763128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09480" y="5638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812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in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10552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781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ide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sharing of electrons, join atoms in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share outer energy level electrons with other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joined together by covalent bonds for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Metals  +  Non-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Share Electrons  NOT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alent Bonds Share Electr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orm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LECU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05740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sms are sensitive to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as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33cc3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in solution is an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ne tha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pts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33cc3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in solution is a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ity is measured on the pH sc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a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water and solutions that are neither basic nor acidic are neutral, with a pH of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304920" y="6094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3352680" y="533520"/>
            <a:ext cx="5216760" cy="5790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905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32448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3581280" y="1295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581280" y="2209680"/>
            <a:ext cx="1447920" cy="304920"/>
          </a:xfrm>
          <a:prstGeom prst="rect">
            <a:avLst/>
          </a:prstGeom>
          <a:solidFill>
            <a:srgbClr val="ff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581640" y="2209680"/>
            <a:ext cx="14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idic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573360" y="4114800"/>
            <a:ext cx="1524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573360" y="411480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tral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81280" y="6095880"/>
            <a:ext cx="1447920" cy="304920"/>
          </a:xfrm>
          <a:prstGeom prst="rect">
            <a:avLst/>
          </a:prstGeom>
          <a:solidFill>
            <a:srgbClr val="cad3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581280" y="6095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 rot="16200000">
            <a:off x="4409280" y="1833840"/>
            <a:ext cx="2514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ly ACI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igher concentration of 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 rot="16200000">
            <a:off x="4523400" y="4691520"/>
            <a:ext cx="2286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ly 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Lower concentration of 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181480" y="3333600"/>
            <a:ext cx="121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6934320" y="1523880"/>
            <a:ext cx="2057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on juice; 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6934320" y="19051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pefruit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6934320" y="23623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934320" y="30481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6934320" y="34290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6934320" y="39625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934320" y="472428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934320" y="51055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6934320" y="54864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hold bl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934320" y="586728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6934320" y="36576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ma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048120" y="1143000"/>
            <a:ext cx="533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3581280" y="1600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3048120" y="1447920"/>
            <a:ext cx="533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w Do Cells keep pH at 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are kept close to pH 7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120" y="2514600"/>
            <a:ext cx="693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uff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substances that </a:t>
            </a:r>
            <a:r>
              <a:rPr b="0" i="1" lang="en-US" sz="3600" spc="-1" strike="noStrike">
                <a:solidFill>
                  <a:srgbClr val="3366ff"/>
                </a:solidFill>
                <a:latin typeface="Arial"/>
              </a:rPr>
              <a:t>resi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H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y accept H+ ions when they are in excess and donate H+ ions when they are de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ffers are no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ol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on: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reatens the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cosystems are threatened by acid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rmed when air pollutants from burning fossil fuels combine with water vapor in the air to form sulfuric and nitr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5863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FFECTS OF 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ids can kill fish, damage buildings, and injur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, new technology, and energy conserv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 he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 reduce aci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0199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EXP.  ¾ BIOMOLECULES 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GIVE ONE EX OF 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ESSAY  5 PARAGRAPHS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BOHYDRATES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olecules made up o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G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Major types of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Poly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MONOSACCHARIDES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only 1 suga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 Carbon, Hydrogen,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by cells fo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YDROXYL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OH) and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CARBONYL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=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0" t="0" r="0" b="15075"/>
          <a:stretch/>
        </p:blipFill>
        <p:spPr>
          <a:xfrm>
            <a:off x="2209680" y="4267080"/>
            <a:ext cx="38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ONOSACCHAR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ar Molecules can go fro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TR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a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rcRect l="0" t="0" r="0" b="8191"/>
          <a:stretch/>
        </p:blipFill>
        <p:spPr>
          <a:xfrm>
            <a:off x="762120" y="2409840"/>
            <a:ext cx="76197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SSACHARIDES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when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gar molecules com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16884"/>
          <a:stretch/>
        </p:blipFill>
        <p:spPr>
          <a:xfrm>
            <a:off x="914400" y="2438280"/>
            <a:ext cx="7162920" cy="2667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657600" y="5257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nnecti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How sweet is sw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molecules, including non-sugars, taste sweet because they bind to “sweet” receptors on the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0" t="0" r="0" b="8337"/>
          <a:stretch/>
        </p:blipFill>
        <p:spPr>
          <a:xfrm>
            <a:off x="1787400" y="3124080"/>
            <a:ext cx="5567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04920" y="1522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LYSACCHARIDES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04920" y="1295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Sugar Molecules bond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rcRect l="0" t="0" r="0" b="5288"/>
          <a:stretch/>
        </p:blipFill>
        <p:spPr>
          <a:xfrm>
            <a:off x="380880" y="2179800"/>
            <a:ext cx="8458200" cy="4167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3809880" y="22860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ch granules in potato tub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715000" y="2286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 rot="5400000">
            <a:off x="6286320" y="2552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 flipV="1">
            <a:off x="3429000" y="2438280"/>
            <a:ext cx="457200" cy="15264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352680" y="2438280"/>
            <a:ext cx="533520" cy="45720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7391520" y="2286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39152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739152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886200" y="35812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ogen granules in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 flipV="1">
            <a:off x="3276720" y="3733920"/>
            <a:ext cx="685800" cy="30456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48120" y="4911840"/>
            <a:ext cx="160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ose fibrils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lant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048120" y="5334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lulo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342900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3428640" y="5714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3276720" y="37339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 flipV="1">
            <a:off x="3429000" y="24382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3352680" y="24382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LIPIDS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:  Energy storing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carbon and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mix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PIDS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re also called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TRIGLYCERIDES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GLYCERIDES consists of one glycerol molecule linked to three fatty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0" t="0" r="0" b="7746"/>
          <a:stretch/>
        </p:blipFill>
        <p:spPr>
          <a:xfrm>
            <a:off x="914400" y="3505320"/>
            <a:ext cx="717408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Comment 5"/>
          <p:cNvSpPr/>
          <p:nvPr/>
        </p:nvSpPr>
        <p:spPr>
          <a:xfrm>
            <a:off x="395280" y="3495600"/>
            <a:ext cx="673200" cy="196524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3352680" y="3191040"/>
            <a:ext cx="1017720" cy="45864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mment 7"/>
          <p:cNvSpPr/>
          <p:nvPr/>
        </p:nvSpPr>
        <p:spPr>
          <a:xfrm>
            <a:off x="4670280" y="3130560"/>
            <a:ext cx="887400" cy="41292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major component of cel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aterproof co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f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ospholipids, waxes, and steroids are lip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rcRect l="0" t="0" r="0" b="5635"/>
          <a:stretch/>
        </p:blipFill>
        <p:spPr>
          <a:xfrm>
            <a:off x="3352680" y="3124080"/>
            <a:ext cx="5491440" cy="251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9432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ian hair is composed prote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gulate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405400" y="1700280"/>
            <a:ext cx="34336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 Collins Folder w/ Type 3  ONL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:  BI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ome around and give you y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er Gr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Protein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re made up of 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mino Acids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2133720"/>
            <a:ext cx="85345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amino gro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arboxyl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R group, which distinguishes each of the 20 different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048120" y="59436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ino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876920" y="5943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boxyl (acid)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0" b="23074"/>
          <a:stretch/>
        </p:blipFill>
        <p:spPr>
          <a:xfrm>
            <a:off x="2895480" y="4038480"/>
            <a:ext cx="3276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Proteins F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28600" y="1371600"/>
            <a:ext cx="861048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link amino acids together by dehydration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ds between amino acids are called peptide bo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rcRect l="0" t="0" r="0" b="15865"/>
          <a:stretch/>
        </p:blipFill>
        <p:spPr>
          <a:xfrm>
            <a:off x="457200" y="3962520"/>
            <a:ext cx="8381880" cy="1780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45720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36232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5308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pept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26708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hydr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3733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boxy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209680" y="3733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629400" y="3733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15238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21337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2362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3623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8954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572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CLEIC ACID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olecules that carry all information for a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prints for Protei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&amp; RNA:  Control all cell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rcRect l="0" t="0" r="0" b="13232"/>
          <a:stretch/>
        </p:blipFill>
        <p:spPr>
          <a:xfrm>
            <a:off x="1600200" y="2438280"/>
            <a:ext cx="5800680" cy="3943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units of nucleic acid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t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752480" y="5562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sph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809880" y="63244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219320" y="6202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28600" y="16002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nucleotide is composed of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sph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trogen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638680" y="46483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trogeno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rcRect l="0" t="0" r="0" b="17411"/>
          <a:stretch/>
        </p:blipFill>
        <p:spPr>
          <a:xfrm>
            <a:off x="990720" y="1828800"/>
            <a:ext cx="2973240" cy="40384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the backbone for the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62120" y="6019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gar-phosph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276720" y="2514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743200" y="2666880"/>
            <a:ext cx="457200" cy="0"/>
          </a:xfrm>
          <a:prstGeom prst="line">
            <a:avLst/>
          </a:prstGeom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219320" y="5867280"/>
            <a:ext cx="0" cy="228600"/>
          </a:xfrm>
          <a:prstGeom prst="line">
            <a:avLst/>
          </a:prstGeom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"/>
          <p:cNvPicPr/>
          <p:nvPr/>
        </p:nvPicPr>
        <p:blipFill>
          <a:blip r:embed="rId2"/>
          <a:srcRect l="0" t="0" r="0" b="3691"/>
          <a:stretch/>
        </p:blipFill>
        <p:spPr>
          <a:xfrm>
            <a:off x="5562720" y="1523880"/>
            <a:ext cx="3124080" cy="5105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4567320" y="325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YOUR LETTER GRADE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WHAT YOU DID GOOD/BAD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3 GOALS FOR QUARTER 2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 One:  Write 5 Observations you see in this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18898"/>
          <a:stretch/>
        </p:blipFill>
        <p:spPr>
          <a:xfrm>
            <a:off x="762120" y="2300400"/>
            <a:ext cx="7619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lecules can be represented in many 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sn2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55520" y="46080"/>
            <a:ext cx="952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155520" y="46080"/>
            <a:ext cx="95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55520" y="46080"/>
            <a:ext cx="9525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155520" y="46080"/>
            <a:ext cx="99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lt  (NaC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639880" y="1600200"/>
            <a:ext cx="386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dium + chlorine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odium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05040" y="1909800"/>
            <a:ext cx="7333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arrangement determines the chemical propertie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rranged i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most shell determines the chemical properties of a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atoms, a full outer shell holds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e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9:05Z</dcterms:created>
  <dc:creator>REBECCCA VEILLEUX</dc:creator>
  <dc:description/>
  <dc:language>en-US</dc:language>
  <cp:lastModifiedBy>Rebecca Veilleux</cp:lastModifiedBy>
  <dcterms:modified xsi:type="dcterms:W3CDTF">2010-05-14T14:23:22Z</dcterms:modified>
  <cp:revision>21</cp:revision>
  <dc:subject/>
  <dc:title>Slide 1</dc:title>
</cp:coreProperties>
</file>